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9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24D15-F4F8-4333-B220-8D4C49F8F71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이나 의복 등 습기에 약한 물품을 보관하는데 최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!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1B3AF-CC36-4357-B599-5673E449C6D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하므로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5AB41-D3F9-4921-8344-9B82B812CEB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해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5D279-FACC-4909-9DA2-EF3AB2DF7F4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선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 일반적일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환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가 넓을때 활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CF7D6-7A7E-4C75-BA04-31483B1D385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반적으로 양각이라 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변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산각을 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의 모서리를 없애고          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근모양으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음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음환각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다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B3F1C-665D-47CD-B399-65016AE4BDE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구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통 음양각이라 하며 맥부분을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글게 표현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산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맥부분을 산처럼 뾰족하게 표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20B6F-35DB-4053-A423-BA52A32D7A0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6F20A-2285-4FB6-A205-E59EF43A877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BB731-8CC7-4071-927B-4514526832E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D5A25-AFF9-4358-8596-C4CEEC4E903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오른쪽 사진 두 장은 류장발교수님방에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C9576-2D81-48A0-A580-59C6F311A88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부채사진은 이덕재교수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왼쪽사진은 권태호교수님방 목베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34305-9C12-43F2-AB1C-7BB425528DD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CA716-E23D-45EA-8E0B-1D46FD0EEF6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F1651-54AF-466D-91BE-D631435E6D3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벽화에 보이는 평상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F6D13-CA5F-4410-96A0-4B8F488793A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전칠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목공예품에 장식하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큰건 대장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작은건 나전칠기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1AEDF-CAB3-42BD-BC78-FD85B657E46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연상이라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CA294-EFA9-476F-B100-1F274F85469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4C1B-4128-4023-BCB7-3D809144C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9865-2E87-4356-893A-8BC660EA9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2427-450A-4B4E-9129-5205B4918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C079-1ADF-4146-8A8D-17E919732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F6EBB-135E-4438-B778-FA86390B6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C5571-ED49-44C0-B222-719E98374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1B6AE-5B7D-48CF-A9EB-241213293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9DD43-CB48-446C-93F9-CC5C6ABC5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333F2-6A3A-4232-898A-C3B459E42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87E10-1AB4-4BC5-BC25-FAF5FA852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FFC7F-9CE1-479D-B37E-D5C82BBB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FEE2-BBF5-4798-9377-830A44176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E7D68-F922-431D-B3E3-7D7A5A5DC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92A6D-7F26-4637-8B84-A9643982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0EFC4-A265-46E0-8D92-59D024EB7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95916-89E3-40FB-9D67-6055BD63D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87A5C-FC0C-4227-8A95-61F2A57B0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B3A9F-9B60-41D0-BDCF-64937F5AB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F712B-5AE6-44B8-9775-25781C99F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5EF78-7837-40E6-944B-4C078F023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D9765-A827-4F79-BF7A-20BE839C5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1F035-812A-4251-B67E-70BED36E1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9B85-0C84-4B06-8FCA-1DC50ABF3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9E785-77BD-415D-B098-91869FF3F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46957-8737-4DB1-B7B2-E2D1CA61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82E07-F15B-4956-9A2B-AB168100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77C6A-9136-4ACD-9C55-1962D0CE7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37610-70A7-43E1-A1DE-8565E0AFC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CD366-7893-431B-9BFA-557F088DD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D768D-5ECE-47EA-BE55-8D597911C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E1A7-172B-4008-B911-46F1779C3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366C-5954-4119-9577-509A400B6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F4C8-C07D-44EB-ADE2-63516C1AC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17C2-BDF2-4FF7-85A1-C9799254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BD3B-85A2-4212-BC2B-8CF89CF2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133C-00FE-4D81-B963-446B17BE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0B17B-615F-46E6-881A-924C27C689C1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4479B-D43C-4535-BD9A-D45DFBE644C8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C2A0D-A95A-49D1-8BDE-8CF74CBDEBC9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74400" y="431280"/>
            <a:ext cx="743292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SJ깊은물빛"/>
              </a:rPr>
              <a:t>Woodcraft</a:t>
            </a:r>
            <a:endParaRPr b="0" lang="en-US" sz="9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55720" y="2828880"/>
            <a:ext cx="707400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 정동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김영훈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최덕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이수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소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옥의 기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실내가구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수축팽창의 변화가 별로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 결이 고우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윤기가 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촉감이 부드럽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습기에 강함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엌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의 기둥과 쇠목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동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골재와 장롱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오동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종이나 의복 등 습기에 약한 물품을 보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판재의 색이 희고 표면이 무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표면은 검고 광택이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거문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방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책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갑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필통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등에 많이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느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높고 굵게 잘 자라 무늬결이 독특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건습에 예민하여 수축팽창의 폭이 심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리는 단점이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좋아 목가구의 쓰임새 폭이 넓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소품이나 미장재료에 널리 활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먹감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얇게 판재를 쓰면 쉽게 비틀어지거나 터짐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참죽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굵은 선의 나무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붉은색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림이 별로 없고 큰 힘을 견딤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가 탄력이 있고 단단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강하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은행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터지거나 휘지 않음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벼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탄력이 있어 흠이 잘 생기지 않고 벌레가 먹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소반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조각재 등에 많이 쓰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피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드럽고 온순한 재질로 넣고 두꺼운 재료로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함지와 가리방 원반등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35120" y="31892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MDF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섬유와 합성수지 접착제에 의해 밀도가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500~800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J깊은물빛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로 생산된 판상재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grpSp>
        <p:nvGrpSpPr>
          <p:cNvPr id="165" name="그룹 5"/>
          <p:cNvGrpSpPr/>
          <p:nvPr/>
        </p:nvGrpSpPr>
        <p:grpSpPr>
          <a:xfrm>
            <a:off x="615960" y="2109960"/>
            <a:ext cx="2803680" cy="769680"/>
            <a:chOff x="615960" y="2109960"/>
            <a:chExt cx="2803680" cy="769680"/>
          </a:xfrm>
        </p:grpSpPr>
        <p:sp>
          <p:nvSpPr>
            <p:cNvPr id="166" name="모서리가 둥근 직사각형 6"/>
            <p:cNvSpPr/>
            <p:nvPr/>
          </p:nvSpPr>
          <p:spPr>
            <a:xfrm>
              <a:off x="615960" y="2109960"/>
              <a:ext cx="2803680" cy="769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모서리가 둥근 직사각형 4"/>
            <p:cNvSpPr/>
            <p:nvPr/>
          </p:nvSpPr>
          <p:spPr>
            <a:xfrm>
              <a:off x="657000" y="2146320"/>
              <a:ext cx="272124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720" rIns="144720" tIns="144720" bIns="14472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1689120"/>
                  <a:tab algn="l" pos="3378240"/>
                  <a:tab algn="l" pos="5067360"/>
                  <a:tab algn="l" pos="6756480"/>
                  <a:tab algn="l" pos="8445600"/>
                  <a:tab algn="l" pos="10134720"/>
                </a:tabLst>
              </a:pPr>
              <a:r>
                <a:rPr b="0" lang="ko-KR" sz="3800" spc="-1" strike="noStrike">
                  <a:solidFill>
                    <a:srgbClr val="ffffff"/>
                  </a:solidFill>
                  <a:latin typeface="SJ깊은물빛"/>
                  <a:ea typeface="SJ깊은물빛"/>
                </a:rPr>
                <a:t>가공목재</a:t>
              </a:r>
              <a:endParaRPr b="0" lang="en-US" sz="3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제목 1"/>
          <p:cNvSpPr/>
          <p:nvPr/>
        </p:nvSpPr>
        <p:spPr>
          <a:xfrm>
            <a:off x="735120" y="1511280"/>
            <a:ext cx="7529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MDF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의 장단점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다이어그램 4" descr=""/>
          <p:cNvPicPr/>
          <p:nvPr/>
        </p:nvPicPr>
        <p:blipFill>
          <a:blip r:embed="rId1"/>
          <a:stretch/>
        </p:blipFill>
        <p:spPr>
          <a:xfrm>
            <a:off x="536400" y="1865160"/>
            <a:ext cx="8406000" cy="4718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의 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 등이 음으로 표현하는 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73" name="그림 3" descr="음각.bmp"/>
          <p:cNvPicPr/>
          <p:nvPr/>
        </p:nvPicPr>
        <p:blipFill>
          <a:blip r:embed="rId1"/>
          <a:stretch/>
        </p:blipFill>
        <p:spPr>
          <a:xfrm>
            <a:off x="735120" y="3549600"/>
            <a:ext cx="7553160" cy="14112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974880" y="5234040"/>
            <a:ext cx="21589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선각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613320" y="5234040"/>
            <a:ext cx="21571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6130800" y="5234040"/>
            <a:ext cx="21574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그림 3" descr="양각.bmp"/>
          <p:cNvPicPr/>
          <p:nvPr/>
        </p:nvPicPr>
        <p:blipFill>
          <a:blip r:embed="rId1"/>
          <a:stretch/>
        </p:blipFill>
        <p:spPr>
          <a:xfrm>
            <a:off x="735120" y="3789360"/>
            <a:ext cx="7673760" cy="12700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양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 외 부분을 파내어 글자가 위로 솟게 하는 표현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81432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273204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변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4649760" y="538812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6448320" y="5388120"/>
            <a:ext cx="19195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양각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의 중심인 맥은 양으로 하고 획의 외부선 부분은 음으로 하는 기법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2289240" y="527364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구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645160" y="527364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산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8" name="그림 8" descr="음양각.bmp"/>
          <p:cNvPicPr/>
          <p:nvPr/>
        </p:nvPicPr>
        <p:blipFill>
          <a:blip r:embed="rId1"/>
          <a:stretch/>
        </p:blipFill>
        <p:spPr>
          <a:xfrm>
            <a:off x="1568520" y="3595680"/>
            <a:ext cx="6138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3110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차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596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정의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역사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특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재료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기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전망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연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면과 면을 서로 엇베어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1" name="그림 8" descr="연귀.JPG"/>
          <p:cNvPicPr/>
          <p:nvPr/>
        </p:nvPicPr>
        <p:blipFill>
          <a:blip r:embed="rId1"/>
          <a:stretch/>
        </p:blipFill>
        <p:spPr>
          <a:xfrm>
            <a:off x="974880" y="2949480"/>
            <a:ext cx="74451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사개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두 개의 목재가 직각으로 접합이 되도록 요철되게 절개하여 맞추는 방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=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손가락 맞춤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4" name="그림 4" descr="사개맞춤.jpg"/>
          <p:cNvPicPr/>
          <p:nvPr/>
        </p:nvPicPr>
        <p:blipFill>
          <a:blip r:embed="rId1"/>
          <a:stretch/>
        </p:blipFill>
        <p:spPr>
          <a:xfrm>
            <a:off x="1095480" y="3789360"/>
            <a:ext cx="3836880" cy="2373480"/>
          </a:xfrm>
          <a:prstGeom prst="rect">
            <a:avLst/>
          </a:prstGeom>
          <a:ln w="0">
            <a:noFill/>
          </a:ln>
        </p:spPr>
      </p:pic>
      <p:pic>
        <p:nvPicPr>
          <p:cNvPr id="195" name="그림 5" descr="사개맞춤1.JPG"/>
          <p:cNvPicPr/>
          <p:nvPr/>
        </p:nvPicPr>
        <p:blipFill>
          <a:blip r:embed="rId2"/>
          <a:stretch/>
        </p:blipFill>
        <p:spPr>
          <a:xfrm>
            <a:off x="5651640" y="3068640"/>
            <a:ext cx="29970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쪽 목재에는 장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다른 한 쪽에 장부 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구멍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을 만들어 서로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8" name="그림 6" descr="장부맞춤.JPG"/>
          <p:cNvPicPr/>
          <p:nvPr/>
        </p:nvPicPr>
        <p:blipFill>
          <a:blip r:embed="rId1"/>
          <a:stretch/>
        </p:blipFill>
        <p:spPr>
          <a:xfrm>
            <a:off x="5291280" y="3629160"/>
            <a:ext cx="3597120" cy="2466720"/>
          </a:xfrm>
          <a:prstGeom prst="rect">
            <a:avLst/>
          </a:prstGeom>
          <a:ln w="0">
            <a:noFill/>
          </a:ln>
        </p:spPr>
      </p:pic>
      <p:pic>
        <p:nvPicPr>
          <p:cNvPr id="199" name="그림 7" descr="장부맞춤1.JPG"/>
          <p:cNvPicPr/>
          <p:nvPr/>
        </p:nvPicPr>
        <p:blipFill>
          <a:blip r:embed="rId2"/>
          <a:stretch/>
        </p:blipFill>
        <p:spPr>
          <a:xfrm>
            <a:off x="844560" y="3929040"/>
            <a:ext cx="396396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6200" y="310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411520" y="1869840"/>
            <a:ext cx="31366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2" name="그림 4" descr="ing.jpg"/>
          <p:cNvPicPr/>
          <p:nvPr/>
        </p:nvPicPr>
        <p:blipFill>
          <a:blip r:embed="rId1"/>
          <a:stretch/>
        </p:blipFill>
        <p:spPr>
          <a:xfrm>
            <a:off x="1555920" y="1860480"/>
            <a:ext cx="34099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4" name="Picture 4" descr="장식품"/>
          <p:cNvPicPr/>
          <p:nvPr/>
        </p:nvPicPr>
        <p:blipFill>
          <a:blip r:embed="rId1"/>
          <a:stretch/>
        </p:blipFill>
        <p:spPr>
          <a:xfrm>
            <a:off x="376200" y="1751040"/>
            <a:ext cx="1704960" cy="2763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855720" y="4987800"/>
            <a:ext cx="69800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원목의 느낌을 살려 전통적인 감각을 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주로 오동나무 사용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6" name="그림 4" descr="화분받이.JPG"/>
          <p:cNvPicPr/>
          <p:nvPr/>
        </p:nvPicPr>
        <p:blipFill>
          <a:blip r:embed="rId2"/>
          <a:stretch/>
        </p:blipFill>
        <p:spPr>
          <a:xfrm>
            <a:off x="2293920" y="1870200"/>
            <a:ext cx="2432160" cy="257148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7" descr="장식1.JPG"/>
          <p:cNvPicPr/>
          <p:nvPr/>
        </p:nvPicPr>
        <p:blipFill>
          <a:blip r:embed="rId3"/>
          <a:stretch/>
        </p:blipFill>
        <p:spPr>
          <a:xfrm>
            <a:off x="6969240" y="1511280"/>
            <a:ext cx="1828800" cy="33559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9" descr="장식2.JPG"/>
          <p:cNvPicPr/>
          <p:nvPr/>
        </p:nvPicPr>
        <p:blipFill>
          <a:blip r:embed="rId4"/>
          <a:stretch/>
        </p:blipFill>
        <p:spPr>
          <a:xfrm>
            <a:off x="5051520" y="1511280"/>
            <a:ext cx="16700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0" name="Picture 6" descr="제기"/>
          <p:cNvPicPr/>
          <p:nvPr/>
        </p:nvPicPr>
        <p:blipFill>
          <a:blip r:embed="rId1"/>
          <a:stretch/>
        </p:blipFill>
        <p:spPr>
          <a:xfrm>
            <a:off x="6249960" y="4987800"/>
            <a:ext cx="2538360" cy="143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974880" y="2230560"/>
          <a:ext cx="5187960" cy="1938240"/>
        </p:xfrm>
        <a:graphic>
          <a:graphicData uri="http://schemas.openxmlformats.org/drawingml/2006/table">
            <a:tbl>
              <a:tblPr/>
              <a:tblGrid>
                <a:gridCol w="1930320"/>
                <a:gridCol w="3257640"/>
              </a:tblGrid>
              <a:tr h="59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오동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틀어짐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휘어짐이 없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물푸레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더 고풍스러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단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Picture 28" descr="식탁"/>
          <p:cNvPicPr/>
          <p:nvPr/>
        </p:nvPicPr>
        <p:blipFill>
          <a:blip r:embed="rId2"/>
          <a:stretch/>
        </p:blipFill>
        <p:spPr>
          <a:xfrm>
            <a:off x="3732120" y="4508640"/>
            <a:ext cx="1897200" cy="1744560"/>
          </a:xfrm>
          <a:prstGeom prst="rect">
            <a:avLst/>
          </a:prstGeom>
          <a:ln w="0">
            <a:noFill/>
          </a:ln>
        </p:spPr>
      </p:pic>
      <p:pic>
        <p:nvPicPr>
          <p:cNvPr id="213" name="그림 7" descr="베게.JPG"/>
          <p:cNvPicPr/>
          <p:nvPr/>
        </p:nvPicPr>
        <p:blipFill>
          <a:blip r:embed="rId3"/>
          <a:stretch/>
        </p:blipFill>
        <p:spPr>
          <a:xfrm>
            <a:off x="735120" y="4748040"/>
            <a:ext cx="2465280" cy="1544760"/>
          </a:xfrm>
          <a:prstGeom prst="rect">
            <a:avLst/>
          </a:prstGeom>
          <a:ln w="0">
            <a:noFill/>
          </a:ln>
        </p:spPr>
      </p:pic>
      <p:pic>
        <p:nvPicPr>
          <p:cNvPr id="214" name="그림 8" descr="cycameraimage(3).jpg"/>
          <p:cNvPicPr/>
          <p:nvPr/>
        </p:nvPicPr>
        <p:blipFill>
          <a:blip r:embed="rId4"/>
          <a:stretch/>
        </p:blipFill>
        <p:spPr>
          <a:xfrm>
            <a:off x="6729480" y="1751040"/>
            <a:ext cx="1617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6" name="Picture 3" descr="장승"/>
          <p:cNvPicPr/>
          <p:nvPr/>
        </p:nvPicPr>
        <p:blipFill>
          <a:blip r:embed="rId1"/>
          <a:stretch/>
        </p:blipFill>
        <p:spPr>
          <a:xfrm>
            <a:off x="6261120" y="1619280"/>
            <a:ext cx="2292480" cy="4795920"/>
          </a:xfrm>
          <a:prstGeom prst="rect">
            <a:avLst/>
          </a:prstGeom>
          <a:ln w="0">
            <a:noFill/>
          </a:ln>
        </p:spPr>
      </p:pic>
      <p:pic>
        <p:nvPicPr>
          <p:cNvPr id="217" name="그림 5" descr="하회탈.JPG"/>
          <p:cNvPicPr/>
          <p:nvPr/>
        </p:nvPicPr>
        <p:blipFill>
          <a:blip r:embed="rId2"/>
          <a:stretch/>
        </p:blipFill>
        <p:spPr>
          <a:xfrm>
            <a:off x="974880" y="1751040"/>
            <a:ext cx="2398680" cy="16779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5"/>
          <p:cNvSpPr/>
          <p:nvPr/>
        </p:nvSpPr>
        <p:spPr>
          <a:xfrm>
            <a:off x="615960" y="3549600"/>
            <a:ext cx="37162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밤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잘 썩지 않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오리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조각 잘 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자작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결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은행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뽀얀 색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9" name="그림 6" descr="솟대.jpg"/>
          <p:cNvPicPr/>
          <p:nvPr/>
        </p:nvPicPr>
        <p:blipFill>
          <a:blip r:embed="rId3"/>
          <a:stretch/>
        </p:blipFill>
        <p:spPr>
          <a:xfrm>
            <a:off x="4332240" y="1722600"/>
            <a:ext cx="167796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전망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599840"/>
            <a:ext cx="855036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결을 부각시키고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단점을 보안하여 자연미의 표현가능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나무 공예와 친환경이 트렌드가 되면서 인기를 얻음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친환경장난감의 출시로 여러방향으로 발전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목공예전문가가 없어지는 추세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유행에 민감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SJ깊은물빛"/>
              </a:rPr>
              <a:t>목공예의 정의</a:t>
            </a:r>
            <a:endParaRPr b="0" lang="en-US" sz="48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1870200"/>
            <a:ext cx="830916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목재를 이용하여 음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양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투각 등의 기법으로 문양을 새기거나 외형을 완성하는 공예품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36" name="그림 3" descr="%B9%DD~1.JPG"/>
          <p:cNvPicPr/>
          <p:nvPr/>
        </p:nvPicPr>
        <p:blipFill>
          <a:blip r:embed="rId1"/>
          <a:stretch/>
        </p:blipFill>
        <p:spPr>
          <a:xfrm>
            <a:off x="5770440" y="3605040"/>
            <a:ext cx="337356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95360" y="1511280"/>
            <a:ext cx="822960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2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~13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고딕 건축양식이 발달하여 유럽에서는 의자나 테이블이 대량 생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제작기술도 고도화하여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많은 고전양식의 가구가 출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7∼18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를 중심으로 한 목공예의 황금시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20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기계와 강력한 접착제의 출현으로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공장생산으로 이행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360" y="4748040"/>
            <a:ext cx="8229600" cy="16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고려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예가 가장 화려하게 꽃피운 시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전칠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대장경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1" name="그림 5" descr="대장경.JPG"/>
          <p:cNvPicPr/>
          <p:nvPr/>
        </p:nvPicPr>
        <p:blipFill>
          <a:blip r:embed="rId1"/>
          <a:stretch/>
        </p:blipFill>
        <p:spPr>
          <a:xfrm>
            <a:off x="615960" y="1717560"/>
            <a:ext cx="7074000" cy="2643480"/>
          </a:xfrm>
          <a:prstGeom prst="rect">
            <a:avLst/>
          </a:prstGeom>
          <a:ln w="0">
            <a:noFill/>
          </a:ln>
        </p:spPr>
      </p:pic>
      <p:pic>
        <p:nvPicPr>
          <p:cNvPr id="142" name="그림 6" descr="나전칠기.JPG"/>
          <p:cNvPicPr/>
          <p:nvPr/>
        </p:nvPicPr>
        <p:blipFill>
          <a:blip r:embed="rId2"/>
          <a:stretch/>
        </p:blipFill>
        <p:spPr>
          <a:xfrm>
            <a:off x="6130800" y="3549600"/>
            <a:ext cx="26514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95360" y="1990800"/>
            <a:ext cx="822960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선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자연 목리의 미로써 통일성을 나타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5" name="그림 5" descr="연상.JPG"/>
          <p:cNvPicPr/>
          <p:nvPr/>
        </p:nvPicPr>
        <p:blipFill>
          <a:blip r:embed="rId1"/>
          <a:stretch/>
        </p:blipFill>
        <p:spPr>
          <a:xfrm>
            <a:off x="615960" y="3668760"/>
            <a:ext cx="8001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특징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95480" y="2230560"/>
          <a:ext cx="7432560" cy="2757240"/>
        </p:xfrm>
        <a:graphic>
          <a:graphicData uri="http://schemas.openxmlformats.org/drawingml/2006/table">
            <a:tbl>
              <a:tblPr/>
              <a:tblGrid>
                <a:gridCol w="1917720"/>
                <a:gridCol w="5514840"/>
              </a:tblGrid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장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열전도도가 적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강도가 크고 가공이 용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가연성과 부패성이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함수율에 의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변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9" name="다이어그램 5" descr=""/>
          <p:cNvPicPr/>
          <p:nvPr/>
        </p:nvPicPr>
        <p:blipFill>
          <a:blip r:embed="rId1"/>
          <a:stretch/>
        </p:blipFill>
        <p:spPr>
          <a:xfrm>
            <a:off x="476280" y="1620720"/>
            <a:ext cx="82962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6200" y="247032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침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백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해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육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잣나무는 접착력이 약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공이 쉽고 곧으며 긴재료를 얻을 수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활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단단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 기물로 이용하며 무늬가 좋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재질이 단단하고 무늬와 색상이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강도는 침엽수보다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52" name="그룹 3" descr=""/>
          <p:cNvPicPr/>
          <p:nvPr/>
        </p:nvPicPr>
        <p:blipFill>
          <a:blip r:embed="rId1"/>
          <a:stretch/>
        </p:blipFill>
        <p:spPr>
          <a:xfrm>
            <a:off x="596880" y="1536840"/>
            <a:ext cx="291456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2:56:58Z</dcterms:created>
  <dc:creator>sec</dc:creator>
  <dc:description/>
  <dc:language>en-US</dc:language>
  <cp:lastModifiedBy>이수연</cp:lastModifiedBy>
  <dcterms:modified xsi:type="dcterms:W3CDTF">2011-05-30T14:39:10Z</dcterms:modified>
  <cp:revision>131</cp:revision>
  <dc:subject/>
  <dc:title>목공예품</dc:title>
</cp:coreProperties>
</file>